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AC4-20C4-4A83-91AA-6F8CDA0A21B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D31-9353-498C-8D1B-EA14F19313D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6060-CFD7-411F-BC04-9E905605C66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7C29-59F8-4B81-84A3-3FEABC18F36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98BD-9403-4FA2-B11D-2A877DECCB2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6DBF-9698-4CB5-9BF4-9453415A772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4FEF-683A-4B0B-9F5E-974DC4FA340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B6C0-F6CD-44F7-950A-A2B19809A23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9F0F-6DEC-444F-9D0F-9E98CE9A578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2DB8-580D-4A33-9C04-594D29178F6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0792-1AED-4AC3-A2DE-7FFB0CDCB61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DB6D-298B-4AFC-8CFE-3B85EF61555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5871-356B-42AB-A133-C343D85FC2B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897-CD8B-4941-A5EF-EBA0A3A56BB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FC2-10E3-480D-AC35-2CE1D2425AF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B3C-C202-4B21-934D-1F40C9B52F9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540-F9FC-4E75-8E5F-17985781890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B3F8-1D81-42DE-8A17-90EC8D30EF5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221-7D13-4409-97C8-9F3D811462B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748F-DE7F-4EBB-A924-835E3057669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E9CA-B581-4F3E-B5B3-4A19D990969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* It can NOT be used in official communication, only in non-official 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05A5-4146-4EFF-B78A-D809392AD82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11D8-F921-4588-BBDF-EC1E63CB43F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* It can NOT be used in official communication, only in non-official 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647F-3FAE-4FAB-B896-151BF144F3F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641E-FD17-4259-8197-3EBF9AC1003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* It can NOT be used in official communication, only in non-official 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512-D7F5-4F0D-9007-32D8B88332F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6209-D24B-4B44-81AB-853536369E1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0457-5AA9-4C85-BC9A-BBBCACFD608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7E0-80D5-4245-ADBD-70405C19BF6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DBF1-6EA1-418D-8D0C-4F8E262E898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AB0E-0A50-4C7D-9DAC-156EF4A4D42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72EF-D53D-46EF-89A8-85BA6D21E68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3086-E8CB-425F-8068-7C4E6BDB038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B153-8562-4C83-9451-248759BB2BD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1F0-E862-43AE-9D1A-9D3D9935BDF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3416-2112-4DB2-876C-0DD17CC2726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EFB-CDC6-4717-A01E-AFABB0ECAAF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40D6-1A7D-4FAE-B70A-856A926B6D0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1881-E392-4F05-BA49-D634FBEAB46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35C-EC5F-43C8-8AE7-FF323409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8C4-4816-4F74-93FE-783D5C8D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D32-FE7F-493B-8B75-3B4CBE36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48B-39C9-4FDB-B22E-0A96A3BD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FC3-7727-47B9-8E6B-7FE3268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4BC-8CDB-4BE3-AB09-30A328E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7C1-044A-439B-8081-5DB60A82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EF5-E909-4909-8D2A-A59476B3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93F-18FB-4D9E-A6C6-59D25FC1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097-E9F0-4A58-A83E-BE4A722E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CD7-8F9E-492F-8245-5FBF06F8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345-2DB4-48DC-B0A3-81F3D955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949-29A0-4DA1-BB61-DBACABF05E09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_shutterstock_104630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rgb_C-1000Plus-fent_atlatszo"/>
          <p:cNvPicPr/>
          <p:nvPr/>
        </p:nvPicPr>
        <p:blipFill>
          <a:blip r:embed="rId2"/>
          <a:stretch/>
        </p:blipFill>
        <p:spPr>
          <a:xfrm>
            <a:off x="6553080" y="2590920"/>
            <a:ext cx="2390760" cy="410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57617"/>
                </a:solidFill>
                <a:latin typeface="Arial"/>
              </a:rPr>
              <a:t>C1000 Plus - Mega do</a:t>
            </a:r>
            <a:r>
              <a:rPr b="0" lang="ro-RO" sz="3600" spc="-1" strike="noStrike">
                <a:solidFill>
                  <a:srgbClr val="f57617"/>
                </a:solidFill>
                <a:latin typeface="Arial"/>
              </a:rPr>
              <a:t>ză de</a:t>
            </a:r>
            <a:r>
              <a:rPr b="0" lang="hu-HU" sz="3600" spc="-1" strike="noStrike">
                <a:solidFill>
                  <a:srgbClr val="f57617"/>
                </a:solidFill>
                <a:latin typeface="Arial"/>
              </a:rPr>
              <a:t> vitamina C cu măceşe orga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Csipke2"/>
          <p:cNvPicPr/>
          <p:nvPr/>
        </p:nvPicPr>
        <p:blipFill>
          <a:blip r:embed="rId3"/>
          <a:stretch/>
        </p:blipFill>
        <p:spPr>
          <a:xfrm>
            <a:off x="4876920" y="4952880"/>
            <a:ext cx="3182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8"/>
          <p:cNvGrpSpPr/>
          <p:nvPr/>
        </p:nvGrpSpPr>
        <p:grpSpPr>
          <a:xfrm>
            <a:off x="0" y="228600"/>
            <a:ext cx="4571640" cy="5562360"/>
            <a:chOff x="0" y="228600"/>
            <a:chExt cx="4571640" cy="5562360"/>
          </a:xfrm>
        </p:grpSpPr>
        <p:pic>
          <p:nvPicPr>
            <p:cNvPr id="80" name="Picture 6" descr="shutterstock_71353465"/>
            <p:cNvPicPr/>
            <p:nvPr/>
          </p:nvPicPr>
          <p:blipFill>
            <a:blip r:embed="rId1"/>
            <a:stretch/>
          </p:blipFill>
          <p:spPr>
            <a:xfrm>
              <a:off x="163080" y="546840"/>
              <a:ext cx="4299840" cy="52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7"/>
            <p:cNvSpPr/>
            <p:nvPr/>
          </p:nvSpPr>
          <p:spPr>
            <a:xfrm>
              <a:off x="0" y="228600"/>
              <a:ext cx="4571640" cy="39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1120" y="1828800"/>
            <a:ext cx="441936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Care este soluţia? </a:t>
            </a:r>
            <a:br>
              <a:rPr sz="4000"/>
            </a:br>
            <a:r>
              <a:rPr b="0" lang="hu-HU" sz="4000" spc="-1" strike="noStrike">
                <a:solidFill>
                  <a:srgbClr val="f57617"/>
                </a:solidFill>
                <a:latin typeface="Arial"/>
              </a:rPr>
              <a:t>Mai multe fructe şi legu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Ştiaţi că pentru a avea un aport de </a:t>
            </a:r>
            <a:br>
              <a:rPr sz="3600"/>
            </a:br>
            <a:r>
              <a:rPr b="0" lang="hu-HU" sz="3600" spc="-1" strike="noStrike">
                <a:solidFill>
                  <a:srgbClr val="f57617"/>
                </a:solidFill>
                <a:latin typeface="Arial"/>
              </a:rPr>
              <a:t>1000 mg de vitamina C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, ar trebui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să consumaţi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0" y="5638680"/>
            <a:ext cx="9144000" cy="1027080"/>
            <a:chOff x="0" y="5638680"/>
            <a:chExt cx="9144000" cy="1027080"/>
          </a:xfrm>
        </p:grpSpPr>
        <p:pic>
          <p:nvPicPr>
            <p:cNvPr id="85" name="Picture 8" descr="shutterstock_120729790(1)"/>
            <p:cNvPicPr/>
            <p:nvPr/>
          </p:nvPicPr>
          <p:blipFill>
            <a:blip r:embed="rId1"/>
            <a:stretch/>
          </p:blipFill>
          <p:spPr>
            <a:xfrm>
              <a:off x="289548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9" descr="shutterstock_120729790(1)"/>
            <p:cNvPicPr/>
            <p:nvPr/>
          </p:nvPicPr>
          <p:blipFill>
            <a:blip r:embed="rId2"/>
            <a:stretch/>
          </p:blipFill>
          <p:spPr>
            <a:xfrm>
              <a:off x="380988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0" descr="shutterstock_120729790(1)"/>
            <p:cNvPicPr/>
            <p:nvPr/>
          </p:nvPicPr>
          <p:blipFill>
            <a:blip r:embed="rId3"/>
            <a:stretch/>
          </p:blipFill>
          <p:spPr>
            <a:xfrm>
              <a:off x="472428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shutterstock_120729790(1)"/>
            <p:cNvPicPr/>
            <p:nvPr/>
          </p:nvPicPr>
          <p:blipFill>
            <a:blip r:embed="rId4"/>
            <a:stretch/>
          </p:blipFill>
          <p:spPr>
            <a:xfrm>
              <a:off x="556272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2" descr="shutterstock_120729790(1)"/>
            <p:cNvPicPr/>
            <p:nvPr/>
          </p:nvPicPr>
          <p:blipFill>
            <a:blip r:embed="rId5"/>
            <a:stretch/>
          </p:blipFill>
          <p:spPr>
            <a:xfrm>
              <a:off x="655308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3" descr="shutterstock_120729790(1)"/>
            <p:cNvPicPr/>
            <p:nvPr/>
          </p:nvPicPr>
          <p:blipFill>
            <a:blip r:embed="rId6"/>
            <a:stretch/>
          </p:blipFill>
          <p:spPr>
            <a:xfrm>
              <a:off x="746748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4" descr="shutterstock_120729790(1)"/>
            <p:cNvPicPr/>
            <p:nvPr/>
          </p:nvPicPr>
          <p:blipFill>
            <a:blip r:embed="rId7"/>
            <a:stretch/>
          </p:blipFill>
          <p:spPr>
            <a:xfrm>
              <a:off x="830268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5" descr="shutterstock_120729790(1)"/>
            <p:cNvPicPr/>
            <p:nvPr/>
          </p:nvPicPr>
          <p:blipFill>
            <a:blip r:embed="rId8"/>
            <a:stretch/>
          </p:blipFill>
          <p:spPr>
            <a:xfrm>
              <a:off x="190512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6" descr="shutterstock_120729790(1)"/>
            <p:cNvPicPr/>
            <p:nvPr/>
          </p:nvPicPr>
          <p:blipFill>
            <a:blip r:embed="rId9"/>
            <a:stretch/>
          </p:blipFill>
          <p:spPr>
            <a:xfrm>
              <a:off x="99072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7" descr="shutterstock_120729790(1)"/>
            <p:cNvPicPr/>
            <p:nvPr/>
          </p:nvPicPr>
          <p:blipFill>
            <a:blip r:embed="rId10"/>
            <a:stretch/>
          </p:blipFill>
          <p:spPr>
            <a:xfrm>
              <a:off x="0" y="5638680"/>
              <a:ext cx="841320" cy="10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18"/>
          <p:cNvSpPr/>
          <p:nvPr/>
        </p:nvSpPr>
        <p:spPr>
          <a:xfrm>
            <a:off x="2075400" y="228600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proape </a:t>
            </a:r>
            <a:r>
              <a:rPr b="0" lang="hu-HU" sz="1800" spc="-1" strike="noStrike">
                <a:solidFill>
                  <a:srgbClr val="f57617"/>
                </a:solidFill>
                <a:latin typeface="Arial"/>
              </a:rPr>
              <a:t>2 kg de portoca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4896360" y="3809880"/>
            <a:ext cx="35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au mai mult de </a:t>
            </a:r>
            <a:r>
              <a:rPr b="0" lang="hu-HU" sz="1800" spc="-1" strike="noStrike">
                <a:solidFill>
                  <a:srgbClr val="f57617"/>
                </a:solidFill>
                <a:latin typeface="Arial"/>
              </a:rPr>
              <a:t>20 kg de mer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5886360" y="533412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au aproape </a:t>
            </a:r>
            <a:r>
              <a:rPr b="0" lang="hu-HU" sz="1800" spc="-1" strike="noStrike">
                <a:solidFill>
                  <a:srgbClr val="f57617"/>
                </a:solidFill>
                <a:latin typeface="Arial"/>
              </a:rPr>
              <a:t>60 kg de nuc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2"/>
          <p:cNvGrpSpPr/>
          <p:nvPr/>
        </p:nvGrpSpPr>
        <p:grpSpPr>
          <a:xfrm>
            <a:off x="304920" y="1828800"/>
            <a:ext cx="1752480" cy="1218960"/>
            <a:chOff x="304920" y="1828800"/>
            <a:chExt cx="1752480" cy="1218960"/>
          </a:xfrm>
        </p:grpSpPr>
        <p:pic>
          <p:nvPicPr>
            <p:cNvPr id="99" name="Picture 23" descr="shutterstock_118693192"/>
            <p:cNvPicPr/>
            <p:nvPr/>
          </p:nvPicPr>
          <p:blipFill>
            <a:blip r:embed="rId11"/>
            <a:stretch/>
          </p:blipFill>
          <p:spPr>
            <a:xfrm>
              <a:off x="361080" y="2050200"/>
              <a:ext cx="1526400" cy="9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24"/>
            <p:cNvSpPr/>
            <p:nvPr/>
          </p:nvSpPr>
          <p:spPr>
            <a:xfrm>
              <a:off x="304920" y="1828800"/>
              <a:ext cx="1752480" cy="27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5" descr="_shutterstock_125624456"/>
          <p:cNvPicPr/>
          <p:nvPr/>
        </p:nvPicPr>
        <p:blipFill>
          <a:blip r:embed="rId12"/>
          <a:stretch/>
        </p:blipFill>
        <p:spPr>
          <a:xfrm>
            <a:off x="0" y="3581280"/>
            <a:ext cx="1095480" cy="839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_shutterstock_125624456"/>
          <p:cNvPicPr/>
          <p:nvPr/>
        </p:nvPicPr>
        <p:blipFill>
          <a:blip r:embed="rId13"/>
          <a:stretch/>
        </p:blipFill>
        <p:spPr>
          <a:xfrm>
            <a:off x="1143000" y="3505320"/>
            <a:ext cx="1171440" cy="898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_shutterstock_125624456"/>
          <p:cNvPicPr/>
          <p:nvPr/>
        </p:nvPicPr>
        <p:blipFill>
          <a:blip r:embed="rId14"/>
          <a:stretch/>
        </p:blipFill>
        <p:spPr>
          <a:xfrm>
            <a:off x="2362320" y="3581280"/>
            <a:ext cx="1171440" cy="89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_shutterstock_125624456"/>
          <p:cNvPicPr/>
          <p:nvPr/>
        </p:nvPicPr>
        <p:blipFill>
          <a:blip r:embed="rId15"/>
          <a:stretch/>
        </p:blipFill>
        <p:spPr>
          <a:xfrm>
            <a:off x="1143000" y="4343400"/>
            <a:ext cx="1171440" cy="89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9" descr="_shutterstock_125624456"/>
          <p:cNvPicPr/>
          <p:nvPr/>
        </p:nvPicPr>
        <p:blipFill>
          <a:blip r:embed="rId16"/>
          <a:stretch/>
        </p:blipFill>
        <p:spPr>
          <a:xfrm>
            <a:off x="0" y="4343400"/>
            <a:ext cx="1171440" cy="89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_shutterstock_125624456"/>
          <p:cNvPicPr/>
          <p:nvPr/>
        </p:nvPicPr>
        <p:blipFill>
          <a:blip r:embed="rId17"/>
          <a:stretch/>
        </p:blipFill>
        <p:spPr>
          <a:xfrm>
            <a:off x="2362320" y="4343400"/>
            <a:ext cx="1143000" cy="876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1"/>
          <p:cNvSpPr/>
          <p:nvPr/>
        </p:nvSpPr>
        <p:spPr>
          <a:xfrm>
            <a:off x="0" y="6689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SDA, United States Department of Agriculture National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utrient Database for Standard Reference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Release 25, (http://ndb.nal.usda.gov/ndb/foods/list)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2" descr="_shutterstock_125624456"/>
          <p:cNvPicPr/>
          <p:nvPr/>
        </p:nvPicPr>
        <p:blipFill>
          <a:blip r:embed="rId18"/>
          <a:stretch/>
        </p:blipFill>
        <p:spPr>
          <a:xfrm>
            <a:off x="3581280" y="3962520"/>
            <a:ext cx="11718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Chiar dacă puteţi consuma toate acestea, trebuie să 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iţi că ..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hutterstock_87043976"/>
          <p:cNvPicPr/>
          <p:nvPr/>
        </p:nvPicPr>
        <p:blipFill>
          <a:blip r:embed="rId1"/>
          <a:stretch/>
        </p:blipFill>
        <p:spPr>
          <a:xfrm>
            <a:off x="1066680" y="2278080"/>
            <a:ext cx="6873840" cy="4579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În ultimele decen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ivelul de </a:t>
            </a:r>
            <a:r>
              <a:rPr b="0" lang="hu-HU" sz="2800" spc="-1" strike="noStrike">
                <a:solidFill>
                  <a:srgbClr val="f57617"/>
                </a:solidFill>
                <a:latin typeface="Arial"/>
              </a:rPr>
              <a:t>vitamina C conţinu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de fructe şi legume </a:t>
            </a:r>
            <a:r>
              <a:rPr b="0" lang="hu-HU" sz="2800" spc="-1" strike="noStrike">
                <a:solidFill>
                  <a:srgbClr val="f57617"/>
                </a:solidFill>
                <a:latin typeface="Arial"/>
              </a:rPr>
              <a:t>a scăzut cu 60-80%!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datorită cantităţilor masive de îngrăşăminte chimice şi pesticide folosite pe cultu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-82080" y="6589800"/>
            <a:ext cx="64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ource: Geigy Pharmakonzern, Switzerland (1985), Lebensmittellabor Karlsruhe (1996), Snatorium Oberthal (2002), between 1985-2002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Şi încă ceva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6"/>
          <p:cNvGrpSpPr/>
          <p:nvPr/>
        </p:nvGrpSpPr>
        <p:grpSpPr>
          <a:xfrm>
            <a:off x="0" y="2133720"/>
            <a:ext cx="4191120" cy="4495320"/>
            <a:chOff x="0" y="2133720"/>
            <a:chExt cx="4191120" cy="4495320"/>
          </a:xfrm>
        </p:grpSpPr>
        <p:pic>
          <p:nvPicPr>
            <p:cNvPr id="115" name="Picture 4" descr="shutterstock_70759096"/>
            <p:cNvPicPr/>
            <p:nvPr/>
          </p:nvPicPr>
          <p:blipFill>
            <a:blip r:embed="rId1"/>
            <a:stretch/>
          </p:blipFill>
          <p:spPr>
            <a:xfrm>
              <a:off x="123120" y="2266920"/>
              <a:ext cx="3849120" cy="43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5"/>
            <p:cNvSpPr/>
            <p:nvPr/>
          </p:nvSpPr>
          <p:spPr>
            <a:xfrm>
              <a:off x="0" y="2133720"/>
              <a:ext cx="419112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62520" y="1142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ână ce fructele ajung pe masa dvs., </a:t>
            </a:r>
            <a:r>
              <a:rPr b="0" lang="hu-HU" sz="2800" spc="-1" strike="noStrike">
                <a:solidFill>
                  <a:srgbClr val="f57617"/>
                </a:solidFill>
                <a:latin typeface="Arial"/>
              </a:rPr>
              <a:t>conţinutul lor de vitamina C poate să scadă cu încă 50%!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datorită transportului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diţiilor de înmagazinare sau a preparăr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3600" y="6643800"/>
            <a:ext cx="27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ource: Új Tápanyagtáblázat – I. Rodler, Medicina 2006 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cum 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avem nevoie de mai multe vitamine ca niciodată, dar avem din ce în ce mai puţine surse</a:t>
            </a:r>
            <a:r>
              <a:rPr b="0" lang="en-US" sz="3200" spc="-1" strike="noStrike">
                <a:solidFill>
                  <a:srgbClr val="f57617"/>
                </a:solidFill>
                <a:latin typeface="Arial"/>
              </a:rPr>
              <a:t>.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57617"/>
                </a:solidFill>
                <a:latin typeface="Arial"/>
              </a:rPr>
              <a:t>D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e unde să le luăm? </a:t>
            </a:r>
            <a:br>
              <a:rPr sz="3600"/>
            </a:br>
            <a:br>
              <a:rPr sz="4000"/>
            </a:br>
            <a:r>
              <a:rPr b="0" lang="hu-HU" sz="3600" spc="-1" strike="noStrike">
                <a:solidFill>
                  <a:srgbClr val="f57617"/>
                </a:solidFill>
                <a:latin typeface="Arial"/>
              </a:rPr>
              <a:t>Nu vă faceţi griji!</a:t>
            </a:r>
            <a:br>
              <a:rPr sz="3600"/>
            </a:br>
            <a:br>
              <a:rPr sz="4000"/>
            </a:br>
            <a:r>
              <a:rPr b="0" lang="hu-HU" sz="4000" spc="-1" strike="noStrike">
                <a:solidFill>
                  <a:srgbClr val="f57617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57617"/>
                </a:solidFill>
                <a:latin typeface="Arial"/>
              </a:rPr>
              <a:t>Suplimentele alimentare de înaltă calitate sunt soluţia dumneavoastr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5840" y="68544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cum 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20 de ani </a:t>
            </a:r>
            <a:br>
              <a:rPr sz="3200"/>
            </a:b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California Fitness a fost PRIMA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are a lansat pe piaţă 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vitamina C de </a:t>
            </a:r>
            <a:br>
              <a:rPr sz="3200"/>
            </a:b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1000 mg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regi-C1000"/>
          <p:cNvPicPr/>
          <p:nvPr/>
        </p:nvPicPr>
        <p:blipFill>
          <a:blip r:embed="rId1"/>
          <a:stretch/>
        </p:blipFill>
        <p:spPr>
          <a:xfrm>
            <a:off x="990720" y="2362320"/>
            <a:ext cx="23223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6"/>
          <p:cNvGrpSpPr/>
          <p:nvPr/>
        </p:nvGrpSpPr>
        <p:grpSpPr>
          <a:xfrm>
            <a:off x="0" y="685800"/>
            <a:ext cx="9144000" cy="6172200"/>
            <a:chOff x="0" y="685800"/>
            <a:chExt cx="9144000" cy="6172200"/>
          </a:xfrm>
        </p:grpSpPr>
        <p:pic>
          <p:nvPicPr>
            <p:cNvPr id="123" name="Picture 4" descr="shutterstock_93566188"/>
            <p:cNvPicPr/>
            <p:nvPr/>
          </p:nvPicPr>
          <p:blipFill>
            <a:blip r:embed="rId1"/>
            <a:stretch/>
          </p:blipFill>
          <p:spPr>
            <a:xfrm>
              <a:off x="0" y="1011240"/>
              <a:ext cx="9091440" cy="58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5"/>
            <p:cNvSpPr/>
            <p:nvPr/>
          </p:nvSpPr>
          <p:spPr>
            <a:xfrm>
              <a:off x="0" y="68580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108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.. şi suntem bucuroşi să vă anunţăm că 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milioane de oamen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sumă şi acum produsele CaliVita de înaltă calitate cu vitamina 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1523880"/>
            <a:ext cx="60958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ar lumea se schimbă, lucru care ne motivează să facem noi studii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 încât să 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oferim clienţilor noştri întotdeauna calitatea suprem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shutterstock_73437757"/>
          <p:cNvPicPr/>
          <p:nvPr/>
        </p:nvPicPr>
        <p:blipFill>
          <a:blip r:embed="rId1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57617"/>
                </a:solidFill>
                <a:latin typeface="Arial"/>
              </a:rPr>
              <a:t>Vitaminele 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sunt necesare nu doar în sezonul re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ci </a:t>
            </a:r>
            <a:r>
              <a:rPr b="0" lang="hu-HU" sz="3600" spc="-1" strike="noStrike">
                <a:solidFill>
                  <a:srgbClr val="f57617"/>
                </a:solidFill>
                <a:latin typeface="Arial"/>
              </a:rPr>
              <a:t>în toate anotimpuri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505320" y="304812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Pe durata întregului an sunt 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iţi factori care ne slăbesc sistemul imunitar....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_shutterstock_109295900"/>
          <p:cNvPicPr/>
          <p:nvPr/>
        </p:nvPicPr>
        <p:blipFill>
          <a:blip r:embed="rId1"/>
          <a:stretch/>
        </p:blipFill>
        <p:spPr>
          <a:xfrm>
            <a:off x="0" y="2133720"/>
            <a:ext cx="3149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m combinat </a:t>
            </a:r>
            <a:r>
              <a:rPr b="0" lang="hu-HU" sz="3600" spc="-1" strike="noStrike">
                <a:solidFill>
                  <a:srgbClr val="f57617"/>
                </a:solidFill>
                <a:latin typeface="Arial"/>
              </a:rPr>
              <a:t>puritatea </a:t>
            </a:r>
            <a:r>
              <a:rPr b="0" lang="ro-RO" sz="3600" spc="-1" strike="noStrike">
                <a:solidFill>
                  <a:srgbClr val="f57617"/>
                </a:solidFill>
                <a:latin typeface="Arial"/>
              </a:rPr>
              <a:t>agriculturii ecologice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u tehnologia modernă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, având ca rezultat 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57617"/>
                </a:solidFill>
                <a:latin typeface="Arial"/>
              </a:rPr>
              <a:t>C1000 Plus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EGETOS_pptbe"/>
          <p:cNvPicPr/>
          <p:nvPr/>
        </p:nvPicPr>
        <p:blipFill>
          <a:blip r:embed="rId1"/>
          <a:stretch/>
        </p:blipFill>
        <p:spPr>
          <a:xfrm>
            <a:off x="0" y="3127320"/>
            <a:ext cx="5715000" cy="3730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rgb_C-1000 Plus szembol"/>
          <p:cNvPicPr/>
          <p:nvPr/>
        </p:nvPicPr>
        <p:blipFill>
          <a:blip r:embed="rId2"/>
          <a:stretch/>
        </p:blipFill>
        <p:spPr>
          <a:xfrm>
            <a:off x="5715000" y="2486160"/>
            <a:ext cx="28447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Compoziţ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7400" y="2371320"/>
            <a:ext cx="55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ompoziţia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able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tami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00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76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57617"/>
                </a:solidFill>
                <a:latin typeface="Arial"/>
              </a:rPr>
              <a:t>Pulbere de măceşe organice</a:t>
            </a:r>
            <a:r>
              <a:rPr b="0" lang="en-GB" sz="2400" spc="-1" strike="noStrike">
                <a:solidFill>
                  <a:srgbClr val="f57617"/>
                </a:solidFill>
                <a:latin typeface="Arial"/>
              </a:rPr>
              <a:t> 125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Mod de administr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able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 ziln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rgb_C-1000 Plus szembol"/>
          <p:cNvPicPr/>
          <p:nvPr/>
        </p:nvPicPr>
        <p:blipFill>
          <a:blip r:embed="rId1"/>
          <a:stretch/>
        </p:blipFill>
        <p:spPr>
          <a:xfrm>
            <a:off x="6019920" y="2209680"/>
            <a:ext cx="2844720" cy="4372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Csipke2"/>
          <p:cNvPicPr/>
          <p:nvPr/>
        </p:nvPicPr>
        <p:blipFill>
          <a:blip r:embed="rId2"/>
          <a:stretch/>
        </p:blipFill>
        <p:spPr>
          <a:xfrm>
            <a:off x="4495680" y="4743360"/>
            <a:ext cx="3183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eneficiile produs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53337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576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Mega doză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de vitamin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581280" y="23623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n plus de 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măceş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6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62120" y="35053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duse 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organic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76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971800" y="533412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hnologia de </a:t>
            </a:r>
            <a:r>
              <a:rPr b="0" lang="hu-HU" sz="3200" spc="-1" strike="noStrike">
                <a:solidFill>
                  <a:srgbClr val="f57617"/>
                </a:solidFill>
                <a:latin typeface="Arial"/>
              </a:rPr>
              <a:t>eliberare prelungită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ehnologia de </a:t>
            </a:r>
            <a:r>
              <a:rPr b="0" lang="hu-HU" sz="4400" spc="-1" strike="noStrike">
                <a:solidFill>
                  <a:srgbClr val="f57617"/>
                </a:solidFill>
                <a:latin typeface="Arial"/>
              </a:rPr>
              <a:t>eliberare prelungit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304920" y="2743200"/>
            <a:ext cx="2818800" cy="2819160"/>
            <a:chOff x="304920" y="2743200"/>
            <a:chExt cx="2818800" cy="2819160"/>
          </a:xfrm>
        </p:grpSpPr>
        <p:pic>
          <p:nvPicPr>
            <p:cNvPr id="142" name="Picture 6" descr="shutterstock_123674227"/>
            <p:cNvPicPr/>
            <p:nvPr/>
          </p:nvPicPr>
          <p:blipFill>
            <a:blip r:embed="rId1"/>
            <a:stretch/>
          </p:blipFill>
          <p:spPr>
            <a:xfrm>
              <a:off x="475920" y="2991960"/>
              <a:ext cx="2233440" cy="25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7"/>
            <p:cNvSpPr/>
            <p:nvPr/>
          </p:nvSpPr>
          <p:spPr>
            <a:xfrm>
              <a:off x="304920" y="2743200"/>
              <a:ext cx="2818800" cy="33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2819520" y="3200400"/>
            <a:ext cx="5943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57617"/>
                </a:solidFill>
                <a:latin typeface="Arial"/>
              </a:rPr>
              <a:t>C 1000 Plus,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produs cu tehnologia de eliberare prelungită, </a:t>
            </a:r>
            <a:r>
              <a:rPr b="0" lang="hu-HU" sz="2800" spc="-1" strike="noStrike">
                <a:solidFill>
                  <a:srgbClr val="f57617"/>
                </a:solidFill>
                <a:latin typeface="Arial"/>
              </a:rPr>
              <a:t>aduce un aport continuu şi echilibrat de vitamina C  pe durata întregii zile.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ceastă vitamină este obţinută din surse naturale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ta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hidrosolubil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u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oloseşte doar cantitatea de care are nevoie, restul fiind eliminată. Prin urmare, este bine să consumaţi vitamina C în porţii m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dar pe durata întregii z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Beneficiile  </a:t>
            </a:r>
            <a:r>
              <a:rPr b="0" lang="hu-HU" sz="4000" spc="-1" strike="noStrike">
                <a:solidFill>
                  <a:srgbClr val="f57617"/>
                </a:solidFill>
                <a:latin typeface="Arial"/>
              </a:rPr>
              <a:t>agriculturii ecolog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ructele şi legumele ecologice </a:t>
            </a:r>
            <a:r>
              <a:rPr b="0" lang="hu-HU" sz="2400" spc="-1" strike="noStrike">
                <a:solidFill>
                  <a:srgbClr val="f57617"/>
                </a:solidFill>
                <a:latin typeface="Arial"/>
              </a:rPr>
              <a:t>pot avea cu 30% mai multă vitamina 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decât cele provenite din agricultura tradiţional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rsoanele care consumă alimente ecologice </a:t>
            </a:r>
            <a:r>
              <a:rPr b="0" lang="hu-HU" sz="2400" spc="-1" strike="noStrike">
                <a:solidFill>
                  <a:srgbClr val="f57617"/>
                </a:solidFill>
                <a:latin typeface="Arial"/>
              </a:rPr>
              <a:t>se îmbolnăvesc mai greu sau au perioada de convalescenţă mai scurtă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cât cei care consumă produse non-ecolog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in consumul de alimente ecologice </a:t>
            </a:r>
            <a:r>
              <a:rPr b="0" lang="hu-HU" sz="2400" spc="-1" strike="noStrike">
                <a:solidFill>
                  <a:srgbClr val="f57617"/>
                </a:solidFill>
                <a:latin typeface="Arial"/>
              </a:rPr>
              <a:t>diminuăm riscul de contaminare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atorat folosirii îngăşămintelor chimice şi a pesticide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-90000" y="658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760" y="6643800"/>
            <a:ext cx="20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ource: Biokultúra 2004/5, 2004/6, 2005/1</a:t>
            </a: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6552720" y="2209680"/>
            <a:ext cx="2591280" cy="2819160"/>
            <a:chOff x="6552720" y="2209680"/>
            <a:chExt cx="2591280" cy="2819160"/>
          </a:xfrm>
        </p:grpSpPr>
        <p:grpSp>
          <p:nvGrpSpPr>
            <p:cNvPr id="151" name="Group 13"/>
            <p:cNvGrpSpPr/>
            <p:nvPr/>
          </p:nvGrpSpPr>
          <p:grpSpPr>
            <a:xfrm>
              <a:off x="6552720" y="2438280"/>
              <a:ext cx="2590920" cy="2590560"/>
              <a:chOff x="6552720" y="2438280"/>
              <a:chExt cx="2590920" cy="2590560"/>
            </a:xfrm>
          </p:grpSpPr>
          <p:pic>
            <p:nvPicPr>
              <p:cNvPr id="152" name="Picture 14" descr="shutterstock_116003191"/>
              <p:cNvPicPr/>
              <p:nvPr/>
            </p:nvPicPr>
            <p:blipFill>
              <a:blip r:embed="rId1"/>
              <a:stretch/>
            </p:blipFill>
            <p:spPr>
              <a:xfrm flipH="1">
                <a:off x="6609600" y="2559960"/>
                <a:ext cx="2534040" cy="246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Rectangle 15"/>
              <p:cNvSpPr/>
              <p:nvPr/>
            </p:nvSpPr>
            <p:spPr>
              <a:xfrm flipH="1">
                <a:off x="6552360" y="2438280"/>
                <a:ext cx="259092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17"/>
            <p:cNvSpPr/>
            <p:nvPr/>
          </p:nvSpPr>
          <p:spPr>
            <a:xfrm>
              <a:off x="6858000" y="2209680"/>
              <a:ext cx="22860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57617"/>
                </a:solidFill>
                <a:latin typeface="Arial"/>
              </a:rPr>
              <a:t>Măceş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sipke"/>
          <p:cNvPicPr/>
          <p:nvPr/>
        </p:nvPicPr>
        <p:blipFill>
          <a:blip r:embed="rId1"/>
          <a:stretch/>
        </p:blipFill>
        <p:spPr>
          <a:xfrm>
            <a:off x="4876920" y="1981080"/>
            <a:ext cx="4267080" cy="2833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ăceşele sunt bogate în vitamina C şi bioflavonoid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576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57617"/>
                </a:solidFill>
                <a:latin typeface="Arial"/>
              </a:rPr>
              <a:t>Bioflavonoidele pot schimba reacţia sistemului imunitar la anumiţi alergeni, virusuri şi  agenţi cancerigeni</a:t>
            </a: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39840" y="2689200"/>
            <a:ext cx="769608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rincipalele efec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ntialergic,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tiinflam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ntiviral,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nticancerigen,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rotecţia sistemului cardiovascular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Acest supliment vin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completarea tratamentelor, dar nu le înlocuieşte pe acestea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04920" y="525780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ăceşele fac ca efectul megadozei de </a:t>
            </a:r>
            <a:r>
              <a:rPr b="0" lang="hu-HU" sz="2400" spc="-1" strike="noStrike">
                <a:solidFill>
                  <a:srgbClr val="f57617"/>
                </a:solidFill>
                <a:latin typeface="Arial"/>
              </a:rPr>
              <a:t>vitamina C să fie şi mai puternic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6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eneficiile consumului de  </a:t>
            </a:r>
            <a:r>
              <a:rPr b="0" lang="hu-HU" sz="4400" spc="-1" strike="noStrike">
                <a:solidFill>
                  <a:srgbClr val="f57617"/>
                </a:solidFill>
                <a:latin typeface="Arial"/>
              </a:rPr>
              <a:t>vitamina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" descr="shutterstock_35802403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istemul imunit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rijină buna funcţionare a sistemului imunit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029200" y="403848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5761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_shutterstock_9318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Ţesutur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ontribuie la </a:t>
            </a:r>
            <a:r>
              <a:rPr b="0" lang="hu-HU" sz="2800" spc="-1" strike="noStrike">
                <a:solidFill>
                  <a:srgbClr val="f57617"/>
                </a:solidFill>
                <a:latin typeface="Arial"/>
              </a:rPr>
              <a:t>formarea colagenulu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şi ajută la menţinerea sănătăţii </a:t>
            </a:r>
            <a:r>
              <a:rPr b="0" lang="hu-HU" sz="2800" spc="-1" strike="noStrike">
                <a:solidFill>
                  <a:srgbClr val="f57617"/>
                </a:solidFill>
                <a:latin typeface="Arial"/>
              </a:rPr>
              <a:t>vaselor de sânge, a oaselor,cartilajelor, dinţilor, gingiilor, precum şi a piel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_shutterstock_343285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525780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istemul ner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5410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rijină </a:t>
            </a:r>
            <a:r>
              <a:rPr b="0" lang="hu-HU" sz="2800" spc="-1" strike="noStrike">
                <a:solidFill>
                  <a:srgbClr val="f57617"/>
                </a:solidFill>
                <a:latin typeface="Arial"/>
              </a:rPr>
              <a:t>funcţionarea normală a sistemului ner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_shutterstock_65852539"/>
          <p:cNvPicPr/>
          <p:nvPr/>
        </p:nvPicPr>
        <p:blipFill>
          <a:blip r:embed="rId1"/>
          <a:stretch/>
        </p:blipFill>
        <p:spPr>
          <a:xfrm>
            <a:off x="609480" y="631800"/>
            <a:ext cx="8305920" cy="6226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 dietă necorespunzăto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_shutterstock_112250879"/>
          <p:cNvPicPr/>
          <p:nvPr/>
        </p:nvPicPr>
        <p:blipFill>
          <a:blip r:embed="rId1"/>
          <a:stretch/>
        </p:blipFill>
        <p:spPr>
          <a:xfrm>
            <a:off x="0" y="-468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elul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a şi antioxidant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itamina C ajută la protejarea celulelor de stresul oxidat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shutterstock_63455245"/>
          <p:cNvPicPr/>
          <p:nvPr/>
        </p:nvPicPr>
        <p:blipFill>
          <a:blip r:embed="rId1"/>
          <a:stretch/>
        </p:blipFill>
        <p:spPr>
          <a:xfrm>
            <a:off x="0" y="1407960"/>
            <a:ext cx="4299120" cy="5450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00"/>
                </a:solidFill>
                <a:latin typeface="Arial"/>
              </a:rPr>
              <a:t>Performanţa fizic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8840" y="3962520"/>
            <a:ext cx="3505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Joacă un rol important in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procesele metabolice producătoare de energ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962520" y="1676520"/>
            <a:ext cx="4343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9900"/>
                </a:solidFill>
                <a:latin typeface="Arial"/>
              </a:rPr>
              <a:t>Amplifică </a:t>
            </a:r>
            <a:r>
              <a:rPr b="0" lang="ro-RO" sz="2800" spc="-1" strike="noStrike">
                <a:solidFill>
                  <a:srgbClr val="ff6600"/>
                </a:solidFill>
                <a:latin typeface="Arial"/>
              </a:rPr>
              <a:t>absorbţia fierului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ui îi este recomandat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_shutterstock_962402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turor persoanelor, pentru întărirea sistemului imun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" descr="_shutterstock_39734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4495320"/>
            <a:ext cx="8839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rsoanelor învârstă şi/ sau celor aflaţi în convalescenţ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_shutterstock_7049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9880"/>
            <a:ext cx="8229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elor care lucrează sub stres in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_shutterstock_1125879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portivilor şi persoanelor care depun un efort fizic in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_shutterstock_593435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meilor care nu se află la menopauză şi tuturor persoanelor care suferă de anemie feripiv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EGETOS_pptbe"/>
          <p:cNvPicPr/>
          <p:nvPr/>
        </p:nvPicPr>
        <p:blipFill>
          <a:blip r:embed="rId1"/>
          <a:stretch/>
        </p:blipFill>
        <p:spPr>
          <a:xfrm>
            <a:off x="0" y="3127320"/>
            <a:ext cx="5715000" cy="3730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57617"/>
                </a:solidFill>
                <a:latin typeface="Arial"/>
              </a:rPr>
              <a:t>C1000 Plus – în reţeaua globală CaliVita®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rgb_C-1000 Plus szembol"/>
          <p:cNvPicPr/>
          <p:nvPr/>
        </p:nvPicPr>
        <p:blipFill>
          <a:blip r:embed="rId2"/>
          <a:stretch/>
        </p:blipFill>
        <p:spPr>
          <a:xfrm>
            <a:off x="5715000" y="2486160"/>
            <a:ext cx="28447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_shutterstock_10527599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ipsa exerciţiului fiz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_shutterstock_61355719"/>
          <p:cNvPicPr/>
          <p:nvPr/>
        </p:nvPicPr>
        <p:blipFill>
          <a:blip r:embed="rId1"/>
          <a:stretch/>
        </p:blipFill>
        <p:spPr>
          <a:xfrm>
            <a:off x="1676520" y="1523880"/>
            <a:ext cx="5715000" cy="4948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olosirea anumitor substanţe chim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n stil de viaţă stre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hutterstock_76428253"/>
          <p:cNvPicPr/>
          <p:nvPr/>
        </p:nvPicPr>
        <p:blipFill>
          <a:blip r:embed="rId1"/>
          <a:stretch/>
        </p:blipFill>
        <p:spPr>
          <a:xfrm>
            <a:off x="380880" y="1144440"/>
            <a:ext cx="853452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Traffic_by_trappedinreal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914400" y="304920"/>
            <a:ext cx="74674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oluarea din marile oraş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_shutterstock_48714919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Fumatul şi consumul de al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752480"/>
            <a:ext cx="327636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57617"/>
                </a:solidFill>
                <a:latin typeface="Arial"/>
              </a:rPr>
              <a:t>Societatea de azi are nevoie de mai multe vitami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5562720" y="1447920"/>
            <a:ext cx="3581280" cy="5410080"/>
            <a:chOff x="5562720" y="1447920"/>
            <a:chExt cx="3581280" cy="5410080"/>
          </a:xfrm>
        </p:grpSpPr>
        <p:pic>
          <p:nvPicPr>
            <p:cNvPr id="69" name="Picture 4" descr="shutterstock_34438624"/>
            <p:cNvPicPr/>
            <p:nvPr/>
          </p:nvPicPr>
          <p:blipFill>
            <a:blip r:embed="rId1"/>
            <a:stretch/>
          </p:blipFill>
          <p:spPr>
            <a:xfrm>
              <a:off x="5703840" y="1697040"/>
              <a:ext cx="3440160" cy="51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5"/>
            <p:cNvSpPr/>
            <p:nvPr/>
          </p:nvSpPr>
          <p:spPr>
            <a:xfrm>
              <a:off x="5562720" y="1447920"/>
              <a:ext cx="35812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7"/>
          <p:cNvSpPr/>
          <p:nvPr/>
        </p:nvSpPr>
        <p:spPr>
          <a:xfrm>
            <a:off x="5721120" y="2743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matu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788880" y="8380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coolu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203480" y="34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962600" y="48769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erul polua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797440" y="1447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esu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5495400" y="380988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ubstanţe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imi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392960" y="18288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ast foo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1629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dentarismu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41:43Z</dcterms:created>
  <dc:creator>Anita</dc:creator>
  <dc:description/>
  <dc:language>en-US</dc:language>
  <cp:lastModifiedBy>Oana Stefanut</cp:lastModifiedBy>
  <dcterms:modified xsi:type="dcterms:W3CDTF">2019-08-12T08:20:43Z</dcterms:modified>
  <cp:revision>307</cp:revision>
  <dc:subject/>
  <dc:title>Slide 1</dc:title>
</cp:coreProperties>
</file>